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CB44-E1B5-44AB-837F-7280A3A9C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BFFE-F7DF-4ED0-8B48-20ED1B938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69E24-6EBB-4D31-A692-578D36B88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0A53-3207-48A4-B1E6-CC24E9575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13BA2-8956-4CBA-8D7C-1FCB6FD584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94C0-4BB9-4F87-8B5A-0EF2FB028D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AD36-790D-4E64-BBDE-40168A9459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06D0-4622-4F7E-9BEE-90E1635788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4DED-E50A-46EB-AE4F-BC8D41B3EB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EA65B-0B0B-4F47-91B5-B91516C1D1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25CA2-11FB-4FD5-8337-59D9A9EDA8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8FBB-3938-43FB-AC7F-C1C2C5F22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72DC-6BEC-4C17-AC74-FDEE657785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CF7B-ECA5-454B-9A0B-97342EB463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9989-3788-4ED4-BD59-35765DF950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37FB-30F1-4C72-AD6B-AAD52789FB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74F7F-C78F-43F7-9D39-451F78C5D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B09E-01FD-49CA-A6B8-1B3BBF179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9189-923A-4873-B08D-6AC428065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8258-0497-4051-8417-25ACF9222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D0178-3D80-41E2-8012-5F968A611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2B48-4CA8-4AE4-8478-6CC1CA304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B074-D773-47EA-B3AD-87DAC6AAE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F6F5-0566-4D26-86EE-53FD64E23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8440" algn="ctr">
              <a:spcBef>
                <a:spcPts val="700"/>
              </a:spcBef>
              <a:buClr>
                <a:srgbClr val="000000"/>
              </a:buClr>
              <a:buFont typeface="Copperplate Gothic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3A20-7B87-4CA1-8C67-5B3501533435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27800" y="6248160"/>
            <a:ext cx="35424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EBDC-D0A6-4E97-999B-F7CC99149408}" type="slidenum">
              <a:rPr b="0" lang="en-US" sz="1400" spc="-1" strike="noStrike">
                <a:solidFill>
                  <a:srgbClr val="000000"/>
                </a:solidFill>
                <a:latin typeface="Copperplate Gothic Light"/>
                <a:ea typeface="Copperplate Gothic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ignal words and 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cilitating higher level thinking skill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Need both reader and author input when: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terpre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generalizing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Writing prompt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tIns="50760" bIns="50760" anchor="t">
            <a:norm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ing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rter in length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Higher in rigor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Lend themselves to analysis, evaluation, interpretation, etc.</a:t>
            </a:r>
            <a:endParaRPr b="0" lang="en-US" sz="24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Target passage type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tory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Non-Fic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Biography (auto) OR practical/how-to/advertise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Essay/editoria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romp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lated to a PA reading standard/anchor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orporate language of the standard/ancho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Ask for supporting details/examples from pass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Writing prompt respons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Need to respond directly in first sentence or two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Incorporate key words/phrases from promp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ite evidence from text to suppor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hould support with more than one essential detail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consider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Student response should be brief and to the point: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5 or 6 sentences max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PSSA rubric for open ended reading item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d in handout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Familiarize students with the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let students evaluate other responses using the rubric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Signal words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pperplate Gothic Light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 - break apart, examine methodically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Reader’s voice as well as author’s 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ite evidenc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ention in support (of a thesis statement); refer to as an exampl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s using quotes or paraphrasing essential detail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Compare/contras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When asked to evaluate two related passage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evaluat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Make a judgment after weighing specific evidence 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Judgment is reader’s evaluation of what author writes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Specific evidence (in text) should correlate/support judgment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Generalize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Draw conclusions based upon presented information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Correlation/support with essential specific details (in text)</a:t>
            </a:r>
            <a:endParaRPr b="0" lang="en-US" sz="28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Provide meaning:  make it clea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Readers should use own language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pperplate Gothic Light"/>
              </a:rPr>
              <a:t>Sentence starters</a:t>
            </a:r>
            <a:endParaRPr b="0" lang="en-US" sz="5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Using language of PSSA Anchors, PA Reading Standards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Light"/>
              </a:rPr>
              <a:t>interpret and/or analyze the effect of . .”</a:t>
            </a:r>
            <a:endParaRPr b="0" lang="en-US" sz="4400" spc="-1" strike="noStrike">
              <a:solidFill>
                <a:srgbClr val="000000"/>
              </a:solidFill>
              <a:latin typeface="Copperplate Gothic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777777"/>
            </a:outerShdw>
          </a:effectLst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Light"/>
              </a:rPr>
              <a:t>Include the impact/effect upon the reader</a:t>
            </a:r>
            <a:endParaRPr b="0" lang="en-US" sz="3200" spc="-1" strike="noStrike">
              <a:solidFill>
                <a:srgbClr val="000000"/>
              </a:solidFill>
              <a:latin typeface="Copperplate Gothic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acher FCASD</dc:creator>
  <dc:description/>
  <dc:language>en-US</dc:language>
  <cp:lastModifiedBy/>
  <cp:revision>0</cp:revision>
  <dc:subject/>
  <dc:title>Signal words and writing prompts</dc:title>
</cp:coreProperties>
</file>